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36E-5A26-4E15-B11D-FF15F584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E0D-39AD-40CC-8F02-217DD504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2BD-E50E-4B8E-8DD4-1478D492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E0A-ADC2-4A61-B77E-C9299F7B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603-0661-480B-95B0-9288264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DA3-28AE-464B-ACBF-DEB2C378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FDE-5BCE-48AE-9D96-671B9077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6EE-E596-46C4-8E94-C314EA3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423-53EB-402E-B122-98FC7F84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262-1126-40C9-AB8A-F28B34B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F3E-D6CC-47D0-9711-BF8E5333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762-7FC0-4BFC-8A21-385E930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0CB7-A841-432F-BFBC-3DC69DBF8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Search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hat you have chosen and tested your topic, you need to create a search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= space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your topic as a research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ffect of space exploration on international coope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the important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ry to include “fuzzy terms” such as effect,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 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ace expl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shut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au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tional co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 are ready to build your search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Boolean operat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 narrow your search finding fewer, more precise h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will broaden your search, finding mor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venn diagram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un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ncation means shortening a word with a symbol to find variations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the symbol is an asterisk * but that can vary by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examples of truncatio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: astro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arch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tatement could look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exploration AND internat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tronautics OR space) AND (cooperation OR polic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3:23:54Z</dcterms:created>
  <dc:creator>lknight</dc:creator>
  <dc:description/>
  <dc:language>en-US</dc:language>
  <cp:lastModifiedBy>nfinleyadm</cp:lastModifiedBy>
  <dcterms:modified xsi:type="dcterms:W3CDTF">2006-11-17T00:26:55Z</dcterms:modified>
  <cp:revision>5</cp:revision>
  <dc:subject/>
  <dc:title>Building a Search Strategy</dc:title>
</cp:coreProperties>
</file>